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BD1-AEA5-4BDB-8046-E7597B1C4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A63B-CA1C-4F6F-AC00-743655C83095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D578-DE17-4132-B73C-70FE5D430B2D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 size is determined in the user’s browser settings although points can still be used to define the size of the tex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ep in mind that using point size doesn’t guarantee that the text will display at that siz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29CB-0AA9-4349-99E3-9894CC3DC7A7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E4D6-D97F-4FE5-A737-0B309D756DEC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DA4A-9CFC-4ECB-8115-84C3706CD8D3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D9A4-8B8D-4770-B184-D35C2E51C642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816C-419B-4353-BBB6-678C651D6739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No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stive technologies refer to software and devices used to help people with disabilities use computers and access web page content. For example, assistive technology exists that reads the contents of a web page to users who are bl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6FDB-3C51-4613-85A4-248F79B1BC3B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attribute defines type of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4BF0-BFEA-48A8-A6E1-CA872A248742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EECE-8012-418E-BC7C-387591B0CD55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3C09-5C9A-432A-A619-9203D6F03C72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52C3-6459-4466-927E-29656D6181F5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C704-61CB-4253-949B-186BA2899DB3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0EDD-DA98-4C3C-8009-11C1B7510C8B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90E9-79E2-4BB9-AE8F-A15DE04428BC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64F1-2402-4346-AFCF-628D1FE1B9FB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798B-50C3-4914-BA98-DF839AB9E7E1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2839-E603-45E5-9FD2-AC291C0C721F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may be the only thing the reader sees while waiting on a file to downl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48E3-C1C2-4518-89DC-9B69E6A619BA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C068-2F5E-4884-BE4C-00E68E9768E7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BD84-3AE6-4446-BFA6-AA32504A1936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, prose-free design allows users to quickly find primary and subheadings without the distraction of lengthy paragraph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06EF-7A71-4B1F-8448-8705BBFC7435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9F8C-E86C-4DF2-944B-283FDE57591A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 preferences can be changed by the user’s browser settin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3941-278C-4F68-AC3B-43677699E628}" type="slidenum"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New Roman is one of the most legible on paper but is difficult to read onsc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E34-B8BE-4DEC-ADA0-3ED6C301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720-574C-4EC9-BE32-22C739DB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FC5-2180-4FBB-A504-C84CEFCF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56B-125C-415D-9B79-6A32152C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8826-DD52-46F7-A415-6CBEACA6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89AE-5F3D-49E6-B895-92A62CBE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6CE2-5A89-45FE-8C2D-C0BF8257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DE1A-1924-47AC-A0E6-0125700E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1746-762E-4336-8254-F900D3AF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8D28-2C1C-4B29-8132-1ADFE7EB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6563-7BBF-4970-924C-32089E0E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15B1-4992-42FB-8D72-DC5A4F60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DB4D-34AE-44A9-AA51-B6DEC8D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0141-E990-4A0B-B4DC-F30FFEF8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7EC7-8091-4937-9D52-AAE5D1D7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5D85-F325-436F-825C-D72462C0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AC06-0B6C-4ADB-B252-20052FB6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6B0-713D-4C4C-ABB9-710557A0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6B0-F2D4-4764-B825-2ADF9D9C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6AD-4E45-40D5-9B35-BED85EAB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1D8-5A01-472C-BE24-4F7411BF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8A4-6814-4CEF-9F37-3EB2EA4D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653-18C9-403E-9AFE-86DE7711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E3F-BD16-45D8-8A84-A81E5D6E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CE2A-358F-42C3-81A6-68207477D0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AA0C-27A9-4CF0-BF28-C4A848592B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520" y="825480"/>
            <a:ext cx="808992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02F Principles of Good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Webpage Design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04840" y="4660560"/>
            <a:ext cx="787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02 Develop webp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9"/>
          <p:cNvSpPr/>
          <p:nvPr/>
        </p:nvSpPr>
        <p:spPr>
          <a:xfrm>
            <a:off x="279360" y="17784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sues–Siz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825480" y="1143000"/>
            <a:ext cx="77472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-27936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resolutions and operating systems vary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 point on one machine may display as 14 point on another.</a:t>
            </a:r>
            <a:endParaRPr b="0" lang="en-US" sz="30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-27936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web browsers typically display type that is 2 to 3 points larger than a Macintosh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t Issues—Alignment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justified text is the most legible o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web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ft margin is even and predic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gged right margin will not interfere with legi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44560" y="69840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3427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stified text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commended for use in webpag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r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hyphe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0000"/>
              </a:lnSpc>
              <a:spcBef>
                <a:spcPts val="75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ered and right justified text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ommend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ning more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45720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gged left margins make scanning extremely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080" y="-360"/>
            <a:ext cx="8953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t Issues Continued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2760" y="1079280"/>
            <a:ext cx="61088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indents or a blank line to indicate a new paragrap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ragraph tag &lt;p&gt; in html to leave a blank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n-breaking spaces (&amp;nbsp) to i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t Issues—General Guidelin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itial caps for headlines and head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entence case for body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aps are difficult to re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al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tress foreign words or phrases or to list book and periodical tit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mphasize heading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overuse a—it will lose the effect of adding emph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derl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it implies a hyperl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o users when a link will move them to a page on a different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URL below the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an exit disclai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an interim page warning the user that they are leaving your site and requiring them to click an additional link to leave your si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92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t Issues Continued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2680" y="634680"/>
            <a:ext cx="8674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as a Graph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or banners and navigational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sing text as a graphic for headings, subheadings and body text in case the graphic does not load properly on the viewer’s brow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tudio_177x84"/>
          <p:cNvPicPr/>
          <p:nvPr/>
        </p:nvPicPr>
        <p:blipFill>
          <a:blip r:embed="rId1"/>
          <a:stretch/>
        </p:blipFill>
        <p:spPr>
          <a:xfrm>
            <a:off x="5410080" y="2819520"/>
            <a:ext cx="2248200" cy="92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rcRect l="-1558" t="0" r="44535" b="23960"/>
          <a:stretch/>
        </p:blipFill>
        <p:spPr>
          <a:xfrm>
            <a:off x="533520" y="25909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28" name="Line 7"/>
          <p:cNvSpPr/>
          <p:nvPr/>
        </p:nvSpPr>
        <p:spPr>
          <a:xfrm flipV="1">
            <a:off x="2895480" y="3673080"/>
            <a:ext cx="2743200" cy="158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876920" y="40384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ext is really a graphic.  Note that a rollover or gloss provides pop-up text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3809880" y="4876920"/>
            <a:ext cx="1981440" cy="54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dings and Tit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60240"/>
            <a:ext cx="4495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headings that are unique from one another, descriptive and relate to the content they introdu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headings in the appropriate HTM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s users get a sense of hierarchy of information on the 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helps users of assistive technologies understand the level of importance of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647640"/>
            <a:ext cx="4495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a descriptive, unique, concise, and meaningful title for each webpage in the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s display in the browser’s title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s are used by search engines to identify pages and are listed on the result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4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6000" y="927000"/>
            <a:ext cx="447048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a series of related items in a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descriptive heading for the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lists easy to scan and understand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ingful labels, effective colors, borders, and whit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e first letter and first word in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920" y="876240"/>
            <a:ext cx="431784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lets/Unordered List &lt;ul&gt; for items of equal status or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mportant or most commonly used items at 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ed/Ordered List &lt;ol&gt; for items where a particular order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 alphabetically or numer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numbered items at 1 rather than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7840" y="177480"/>
            <a:ext cx="89661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phics on the Web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5240" y="927000"/>
            <a:ext cx="427968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ideo, animation, and audio only when they help convey or support the website’s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e organization’s logo in a consistent place on every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95320" y="914400"/>
            <a:ext cx="44960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mages that add value and increase the clarity of the information on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phics on the Web Continued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images load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everal small images rather than a large single i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height and weight pixel dimension attributes in the image t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layout of page to continue during download—text will fill in and space will be saved for graphics to “pour” into the reserved sp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umbnails to preview larger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imple background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text difficult to 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olid color backgrounds inst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1100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ll consid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ontrols so that users can stop, start, play, and adjust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ware that embedded media can make total page file size very large and slow the download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68544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bject or embedded tags to include multimedia elements in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nchor tags and href attributes to link to vi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binations of anchor and image tags to link to vi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onsider the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025960" y="5954760"/>
            <a:ext cx="393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219640" y="518472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883560" y="5153040"/>
            <a:ext cx="17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page Design vs. Print Document Design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2240" y="1058400"/>
            <a:ext cx="818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design principles apply to both webpages and print docum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y a few fundamental principles to every webpage cr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9760" y="177480"/>
            <a:ext cx="8813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Continued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92640" cy="52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ive, low bandwidth way to enhance cont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e sizes are smaller than vide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not use as much bandwidth as vide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1640" y="838080"/>
            <a:ext cx="44067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ide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when image quality is a top prior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s a smaller file size than most video so storage and bandwidth are optimiz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 with audio for additional empha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Continued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178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F form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require special plug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no interface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lash becoming dominant animation form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7640" y="761760"/>
            <a:ext cx="4127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video sparing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files tend to be l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quire more storage and slow the download speed of the web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Web Content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6240" y="838080"/>
            <a:ext cx="424944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cronyms and abbrevi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bbreviations sparingl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oid jarg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familiar wor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ke first sentences descrip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292640" y="825480"/>
            <a:ext cx="4851360" cy="58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oic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28600"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hn hit the baseball.” rather than “The baseball was hit by John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ize the number of words in sentences and the number of sentences in paragraph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28600">
              <a:spcBef>
                <a:spcPts val="326"/>
              </a:spcBef>
              <a:spcAft>
                <a:spcPts val="3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tence: 20 wo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28600">
              <a:spcBef>
                <a:spcPts val="326"/>
              </a:spcBef>
              <a:spcAft>
                <a:spcPts val="3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graph: 6 sent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bility Issue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63"/>
              </a:spcBef>
              <a:spcAft>
                <a:spcPts val="1063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tion 508 of the Rehabilitation Act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US government websites must meet the needs of all users including people with disa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17840" y="761760"/>
            <a:ext cx="4826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ut 8% of all users have a disability that makes using a traditional website very difficult or impossi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-related, movement-related, hearing-related and learning-related are the most comm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ibility Issues Continued 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041120"/>
            <a:ext cx="40194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ext equivalent for non-text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information conveyed in color is also available without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text only pages that are useful for screen re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81560" y="1085400"/>
            <a:ext cx="449568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quivalent alternatives for multimedia elements that are synchroniz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ext caption or auditory description of the visual track with the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quire style she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page Design vs. Print Document Design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335240" y="1827360"/>
            <a:ext cx="7080120" cy="116928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clear 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titl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capture the reader’s attention.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Include a tit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the &lt;head&gt; section in case viewers bookmark your page.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219320" y="3886200"/>
            <a:ext cx="7030800" cy="150444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ce a link to the </a:t>
            </a:r>
            <a:r>
              <a:rPr b="1" lang="en-US" sz="2200" spc="-1" strike="noStrike">
                <a:solidFill>
                  <a:srgbClr val="009900"/>
                </a:solidFill>
                <a:latin typeface="Arial"/>
              </a:rPr>
              <a:t>“home” UR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n at least the main pages of the site. 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ides connection back to where a page originated.</a:t>
            </a:r>
            <a:endParaRPr b="0" lang="en-US" sz="2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384120" y="1117440"/>
            <a:ext cx="1000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6480">
                  <a:solidFill>
                    <a:srgbClr val="969696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?</a:t>
            </a:r>
            <a:endParaRPr b="0" lang="en-US" sz="2800" spc="1" strike="noStrike">
              <a:ln w="6480">
                <a:solidFill>
                  <a:srgbClr val="969696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15"/>
          <p:cNvSpPr txBox="1"/>
          <p:nvPr/>
        </p:nvSpPr>
        <p:spPr>
          <a:xfrm>
            <a:off x="384120" y="3214800"/>
            <a:ext cx="1133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6480">
                  <a:solidFill>
                    <a:srgbClr val="969696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RE?</a:t>
            </a:r>
            <a:endParaRPr b="0" lang="en-US" sz="2800" spc="1" strike="noStrike">
              <a:ln w="6480">
                <a:solidFill>
                  <a:srgbClr val="969696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0320" y="53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all Page Layout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001520"/>
            <a:ext cx="449568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he most important items or information near the top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consistent in all design elements used 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ll pag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—fonts, colors, graphic size and location, alignment, and backgrou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78240" y="999720"/>
            <a:ext cx="464832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white space to divide the page into “chunks” of information that readers can quickly sc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4880" y="151920"/>
            <a:ext cx="8978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ome/Index Pag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3240" y="1368360"/>
            <a:ext cx="81421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positive first impression of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the purpose of the web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company’s logo on the page and use it in a consistent location throughout the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1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navigational links or  menus to provide viewers with the links they will need to navigate the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ome/Index Pa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inued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840" y="1008000"/>
            <a:ext cx="8447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to one screen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amount of prose text on home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ll major options on home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access to home page from any other page on the web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unce changes to the website on home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360" y="402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Color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3600" y="1457280"/>
            <a:ext cx="833112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63"/>
              </a:spcBef>
              <a:spcAft>
                <a:spcPts val="1063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e contrasting colors for background and tex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ext on dark background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text on light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roves read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8978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xt Issu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720" y="698400"/>
            <a:ext cx="7772400" cy="61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cading Style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ensure consistency throughout the web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edit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settings of the style once to update all documents using that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styles in word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site and the target audience when selec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43000" y="4610160"/>
            <a:ext cx="20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face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356000" y="4610160"/>
            <a:ext cx="32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length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graphs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as a graphic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315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xt Issues—Typefac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2000" y="1318680"/>
            <a:ext cx="789156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typefaces designed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-screen 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s serif typefaces are easier to read on computer scre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“font-family” property in styles to specify typef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8:46:23Z</dcterms:created>
  <dc:creator>Lee O'Neal</dc:creator>
  <dc:description/>
  <dc:language>en-US</dc:language>
  <cp:lastModifiedBy>ycsadmin</cp:lastModifiedBy>
  <dcterms:modified xsi:type="dcterms:W3CDTF">2011-07-01T19:34:03Z</dcterms:modified>
  <cp:revision>123</cp:revision>
  <dc:subject/>
  <dc:title>Web Site Development  Competency 8 Create a multimedia web site.</dc:title>
</cp:coreProperties>
</file>